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BF4-E848-4696-87D0-054BEA0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1B8-C526-4E00-8D4B-5922E6D6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DF1-E610-46A9-A942-5265E611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533-59E6-43C1-B05E-AAC65CA7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A599-F436-4F88-856F-4FFB968C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20F-75AB-48C8-A02F-EEEF3A5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D9E-E401-47ED-A23B-DAF901D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D11E-1289-44DF-A35C-8EA43AE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B2C9-3EBC-45BA-ADE4-52C4240A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0B9-71E7-42DF-BBBD-5D3D348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56D-C496-4F9D-9E70-5459DED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19E-DE32-4014-B4F4-64039A2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DD56-8D01-4C1B-8D77-840F11F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FA50-3AAB-436D-91A2-4B23A1EB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420-5E9D-4E48-BA21-F73C3A64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E42-FADA-41F9-906A-3A776F3A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291-98CA-4045-A586-F26FEEA2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214-1C7D-4D79-B7A6-7B1C5CD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89F-D441-495D-ACCA-6CB9DE4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BA3-679D-4D81-B011-F045A7DA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012-3295-42AC-BF62-358535C1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AA5-A284-4D00-B5B0-92482879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FD7-793B-4A5A-9996-D7AABC4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4DB-65F7-47A0-8756-0A80B6E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CFC-8363-4EA7-8AC2-0F1DE4B27CA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FAE7-C507-4665-853F-E99A2BD5560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1981080"/>
            <a:ext cx="64882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badi MT Condensed Extra Bold"/>
              </a:rPr>
              <a:t>                 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Welcome 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     How do I prepare for</a:t>
            </a:r>
            <a:endParaRPr b="0" lang="en-US" sz="4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	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          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PSSA?</a:t>
            </a:r>
            <a:endParaRPr b="0" lang="en-US" sz="4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80"/>
                </a:solidFill>
                <a:latin typeface="Abadi MT Condensed Extra Bold"/>
              </a:rPr>
              <a:t>Fairview Elementary      February 15, 2011</a:t>
            </a:r>
            <a:r>
              <a:rPr b="0" lang="en-US" sz="3600" spc="-1" strike="noStrike">
                <a:solidFill>
                  <a:srgbClr val="ff0080"/>
                </a:solidFill>
                <a:latin typeface="Abadi MT Condensed Extra Bol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77400" y="214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2400"/>
            </a:b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lease turn off your iClicker while you are reading!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Here we go students and parents.  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The next questions relate to the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reading passage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.  What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egre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bir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bu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a pla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an elepha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y did the egrets and all the ot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imals love Ella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he was big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She was kind and helpful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he was funn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he could run fas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id Ella warn the animals of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anger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he stomped the groun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She ran through the gras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he used her trunk like a trump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he flapped her ea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egrets know that Ella wasn’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eeling well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.  She fell dow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.  She walked slowly and breathed har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.  She began to cr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.  She stopped eat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.  How did the elephants hug Ella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They wrapped trunk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They wrapped ea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They stood around h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They stomped their fe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pecial plant in the story is mo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k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be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trump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ome feath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ome medicine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end of the story, the animals are happy becaus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Ella feels bett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Ella goes to sleep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Ella is moving tre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Ella is eating insect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etting for this story i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zoo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jungl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a  riv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a hous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badi MT Condensed Extra Bold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Provide overview of PSS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Introduce tes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Practice sample ques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Identify ways to help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Have fun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theme of this story i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leep if you are tire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plants make good medici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you can always count on you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iend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never work too har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genre is this story most lik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Realistic fi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utobiograph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Poet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Fabl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Restate the question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Answer the question in your own words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Prove your answer by providing 2-3 examples from the text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Sum it up!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0" name="Content Placeholder 5" descr="math1.tiff"/>
          <p:cNvPicPr/>
          <p:nvPr/>
        </p:nvPicPr>
        <p:blipFill>
          <a:blip r:embed="rId1"/>
          <a:srcRect l="0" t="-7618" r="0" b="-7618"/>
          <a:stretch/>
        </p:blipFill>
        <p:spPr>
          <a:xfrm>
            <a:off x="2438280" y="0"/>
            <a:ext cx="4854600" cy="3048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73560" y="3124080"/>
            <a:ext cx="19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3/8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3/5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. 5/8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2520" y="9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5" name="Content Placeholder 3" descr="math2.tiff"/>
          <p:cNvPicPr/>
          <p:nvPr/>
        </p:nvPicPr>
        <p:blipFill>
          <a:blip r:embed="rId1"/>
          <a:srcRect l="0" t="-70288" r="0" b="-70288"/>
          <a:stretch/>
        </p:blipFill>
        <p:spPr>
          <a:xfrm>
            <a:off x="1066680" y="-380880"/>
            <a:ext cx="7315200" cy="459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ath2answer.tiff"/>
          <p:cNvPicPr/>
          <p:nvPr/>
        </p:nvPicPr>
        <p:blipFill>
          <a:blip r:embed="rId2"/>
          <a:stretch/>
        </p:blipFill>
        <p:spPr>
          <a:xfrm>
            <a:off x="1752480" y="3809880"/>
            <a:ext cx="2946600" cy="2197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841400" y="38098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830600" y="44197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1830960" y="494028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1832040" y="548640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3" name="Content Placeholder 3" descr="math10.tiff"/>
          <p:cNvPicPr/>
          <p:nvPr/>
        </p:nvPicPr>
        <p:blipFill>
          <a:blip r:embed="rId1"/>
          <a:srcRect l="0" t="-45201" r="0" b="-45201"/>
          <a:stretch/>
        </p:blipFill>
        <p:spPr>
          <a:xfrm>
            <a:off x="1752480" y="685800"/>
            <a:ext cx="4267440" cy="26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math10b.tiff"/>
          <p:cNvPicPr/>
          <p:nvPr/>
        </p:nvPicPr>
        <p:blipFill>
          <a:blip r:embed="rId2"/>
          <a:stretch/>
        </p:blipFill>
        <p:spPr>
          <a:xfrm>
            <a:off x="2057400" y="3200400"/>
            <a:ext cx="1231920" cy="24004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186280" y="33526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186280" y="388620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2186640" y="44910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184480" y="5024520"/>
            <a:ext cx="40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tent Placeholder 3" descr="math4.tiff"/>
          <p:cNvPicPr/>
          <p:nvPr/>
        </p:nvPicPr>
        <p:blipFill>
          <a:blip r:embed="rId1"/>
          <a:srcRect l="0" t="-15619" r="0" b="-15619"/>
          <a:stretch/>
        </p:blipFill>
        <p:spPr>
          <a:xfrm>
            <a:off x="2666880" y="0"/>
            <a:ext cx="3502080" cy="2198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9720" y="2590920"/>
            <a:ext cx="21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8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. 87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. 9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. 177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sting Calendar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ssessmen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                Dat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                       Grade(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Writing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  March 28-April 1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5,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Reading &amp; Math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March 14-March 25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3 through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Science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 April 4-April 8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4,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oetry Brea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read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en All the World Is Full of Sn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New Year Snowbir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then turn on your iClick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Read the lines from “When All the World Is Full of Snow.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“I only want/to watch and wait,/while snow moths </a:t>
            </a:r>
            <a:r>
              <a:rPr b="0" lang="en-US" sz="3200" spc="-1" strike="noStrike" u="sng">
                <a:solidFill>
                  <a:srgbClr val="320000"/>
                </a:solidFill>
                <a:uFillTx/>
                <a:latin typeface="Arial"/>
              </a:rPr>
              <a:t>settle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/on the gate”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1800" y="373392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have an agre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make a deci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come to res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drop to the botto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ich meaning of the word </a:t>
            </a:r>
            <a:r>
              <a:rPr b="0" lang="en-US" sz="2400" spc="-1" strike="noStrike" u="sng">
                <a:solidFill>
                  <a:srgbClr val="320000"/>
                </a:solidFill>
                <a:uFillTx/>
                <a:latin typeface="Arial"/>
              </a:rPr>
              <a:t>settle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is used in the poem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In “When All the World Is Full of Snow,” the speaker compares snowflakes to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124080"/>
            <a:ext cx="30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bees and gate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moths and tree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bees and mot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rees and gat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at does the speaker compare glistening boots to in “New Year Snowbird”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4800" y="32004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w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hadow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phrase from “New Year Snowbird” is an example of alliteration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5160" y="3276720"/>
            <a:ext cx="36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faraway star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istling wing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nowflakes bounc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tars tickl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The following questions relate to BOTH poems.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lines from the poems contain a simile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" y="3124080"/>
            <a:ext cx="853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en I jump toward the light/I close my eyes tight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I never know/just where to go,/when all the world/i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full of snow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C.   “I fly through the shadows waiting to pounce/on th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porch light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.   “I only want/myself to be/as silent as a winter tre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word </a:t>
            </a: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 describes how the speakers in </a:t>
            </a: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both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poems feel when it is snowing outside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9920" y="342900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anxiou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isappoin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ill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at do the speakers of both poems have in common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3276720"/>
            <a:ext cx="451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 both enjoy 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play in the 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pretend to fly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like the star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Give at least two ways the poems are alike and one way they are different, using specific examples from the poems to support your answer.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8000" y="2895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9544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An Academic Training Program</a:t>
            </a:r>
            <a:endParaRPr b="0" lang="en-US" sz="4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Students doing their best depends not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only on their skills, but also on knowing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these three things…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o expect on these types of tes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ies for answering ques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at they have practiced their skil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84" name="Content Placeholder 3" descr="math6.tiff"/>
          <p:cNvPicPr/>
          <p:nvPr/>
        </p:nvPicPr>
        <p:blipFill>
          <a:blip r:embed="rId1"/>
          <a:srcRect l="0" t="-59577" r="0" b="-59577"/>
          <a:stretch/>
        </p:blipFill>
        <p:spPr>
          <a:xfrm>
            <a:off x="1981080" y="-304920"/>
            <a:ext cx="47325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ath6answer.tiff"/>
          <p:cNvPicPr/>
          <p:nvPr/>
        </p:nvPicPr>
        <p:blipFill>
          <a:blip r:embed="rId2"/>
          <a:stretch/>
        </p:blipFill>
        <p:spPr>
          <a:xfrm>
            <a:off x="1905120" y="2895480"/>
            <a:ext cx="2374920" cy="22734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2135520" y="297180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135520" y="35812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135880" y="41148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133720" y="46483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92" name="Content Placeholder 3" descr="math7.tiff"/>
          <p:cNvPicPr/>
          <p:nvPr/>
        </p:nvPicPr>
        <p:blipFill>
          <a:blip r:embed="rId1"/>
          <a:srcRect l="-70061" t="0" r="-70061" b="0"/>
          <a:stretch/>
        </p:blipFill>
        <p:spPr>
          <a:xfrm>
            <a:off x="84240" y="838080"/>
            <a:ext cx="837396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2745000" y="17524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668680" y="28195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2669040" y="419112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2666880" y="53341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572000" y="26668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00" name="Content Placeholder 3" descr="math9b.tiff"/>
          <p:cNvPicPr/>
          <p:nvPr/>
        </p:nvPicPr>
        <p:blipFill>
          <a:blip r:embed="rId1"/>
          <a:srcRect l="0" t="-36493" r="0" b="-36493"/>
          <a:stretch/>
        </p:blipFill>
        <p:spPr>
          <a:xfrm>
            <a:off x="1828800" y="2362320"/>
            <a:ext cx="65530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math8.tiff"/>
          <p:cNvPicPr/>
          <p:nvPr/>
        </p:nvPicPr>
        <p:blipFill>
          <a:blip r:embed="rId2"/>
          <a:stretch/>
        </p:blipFill>
        <p:spPr>
          <a:xfrm>
            <a:off x="914400" y="914400"/>
            <a:ext cx="5594400" cy="1808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657600" y="38098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982880" y="37339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1982880" y="41911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983240" y="464832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1981080" y="51055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09" name="Content Placeholder 3" descr="math11.tiff"/>
          <p:cNvPicPr/>
          <p:nvPr/>
        </p:nvPicPr>
        <p:blipFill>
          <a:blip r:embed="rId1"/>
          <a:srcRect l="-24078" t="0" r="-24078" b="0"/>
          <a:stretch/>
        </p:blipFill>
        <p:spPr>
          <a:xfrm>
            <a:off x="1981080" y="685800"/>
            <a:ext cx="5105520" cy="3205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math11b.tiff"/>
          <p:cNvPicPr/>
          <p:nvPr/>
        </p:nvPicPr>
        <p:blipFill>
          <a:blip r:embed="rId2"/>
          <a:stretch/>
        </p:blipFill>
        <p:spPr>
          <a:xfrm>
            <a:off x="2514600" y="3886200"/>
            <a:ext cx="3384720" cy="2262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3352680" y="457200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2590920" y="441972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590920" y="4876920"/>
            <a:ext cx="29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2590920" y="5334120"/>
            <a:ext cx="30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2590920" y="579132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 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end your time wisely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rk your best answer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ways do your bes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check your answ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ink positivel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0000"/>
                </a:solidFill>
                <a:latin typeface="Arial"/>
              </a:rPr>
              <a:t>Cookies!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st Bluepri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Diagram 6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66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MATH</a:t>
            </a:r>
            <a:br>
              <a:rPr sz="4200"/>
            </a:b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Reporting Categories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2720" y="2614680"/>
            <a:ext cx="456804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Numbers and Operation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Geometr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lgebra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Data Analysi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will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WE 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oduce robust vocabulary for reading, math, science an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PSSA rubr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e t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rent Clin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fter-school practice club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fuse PSSA prep across all subject area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will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YOU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edule no appointm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sure a good night’s sleep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e a healthy breakf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rive to school on ti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your chil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k about the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inforce the need to go back and review answ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try a few samples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3568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8920" y="2673360"/>
            <a:ext cx="59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Arial Rounded MT Bold"/>
              </a:rPr>
              <a:t>Please find our first passag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Arial Rounded MT Bold"/>
              </a:rPr>
              <a:t>Ella’s Friend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0:46:54Z</dcterms:created>
  <dc:creator>West Shore  School District</dc:creator>
  <dc:description/>
  <dc:language>en-US</dc:language>
  <cp:lastModifiedBy>West Shore  School District</cp:lastModifiedBy>
  <cp:lastPrinted>2011-02-03T20:38:18Z</cp:lastPrinted>
  <dcterms:modified xsi:type="dcterms:W3CDTF">2011-03-02T18:22:52Z</dcterms:modified>
  <cp:revision>34</cp:revision>
  <dc:subject/>
  <dc:title>PowerPoint Presentation</dc:title>
</cp:coreProperties>
</file>